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C4D-78C9-4DE9-991C-67FC25B7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BB0-60E7-43D5-9D9B-CA8018F5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53A-9084-4B4E-8037-2124AAA2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7D7-E80C-4382-83EF-4C927858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8B7A-4E94-41AB-8E44-C0C1ABE7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F20-0027-4F36-A2AB-4676F934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DCAD-C50F-4322-918A-36D463E2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E6FB-86F5-411D-B5E0-B721379B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482E-8A60-4D55-BE81-DB18F027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C088-E295-4F37-A737-BD0F199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A00-05F4-4C0F-91E7-08D77FBE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9CB-4EC1-4239-8167-775A7E3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A8EF-2C75-446A-B26E-CC334FB3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3FE6-743E-4C2A-BBF1-5A70813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05B0-9941-4743-A6EB-086A91F0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0B04-0F6C-43A3-A457-E7DC3AD9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A4A8-4920-499F-8A7F-7BD16926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036-D09A-4775-9C3D-F7BE3C60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289-A696-438E-B7EA-487BE6EF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E73-A3C6-4B4F-8DBB-896461E3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AE1-F266-454E-989B-92E2E469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AC52-7E6B-4875-88D0-C03B9FE0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E11-8120-4263-B1E2-C75A5C2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8BF-82C2-4F9E-9D2C-EE87510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EDF5-DB4B-45F3-B4C4-F9F8943BCAC1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889-351D-4599-B95F-FECF0A5A7CF2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819000" y="5838840"/>
            <a:ext cx="3062160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XXXXXXXXXXXXXXXXX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133200" y="7561440"/>
            <a:ext cx="321883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8531280" y="1257480"/>
            <a:ext cx="22864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6769080" y="13849200"/>
            <a:ext cx="17559360" cy="18297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655640" y="1487520"/>
            <a:ext cx="7601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30:16Z</dcterms:modified>
  <cp:revision>188</cp:revision>
  <dc:subject/>
  <dc:title>Slide sem título</dc:title>
</cp:coreProperties>
</file>