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472B-A5A5-44BA-8B0A-981093C0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A19F-63DB-4067-961C-F8FC1A65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406D-9ECF-47D0-ACFE-2B54F833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20A8-21EF-4F11-86F6-51DC970D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7876-0926-43ED-AA31-B0C87229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33BD-510C-466C-AAB0-62304547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3E51-7E50-4374-90D6-5DE7BAF1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2F21-7904-4B5E-B9DB-BD109EF1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E8B0-EC9C-4918-B44F-C1645464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6604-DA2D-4F87-A81E-20E97CC8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0908-517D-4BE2-B703-B4155690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A64-4866-43A2-AADD-CA784ADA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E425-DC47-48BF-826F-09A83CD1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48CA-E0BB-4FDC-843B-83BE193C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8F82-24BD-40F7-ACCE-9230B98B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E3C9-122E-46DA-9FCC-35000450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DFCB-1930-4A08-8FB1-857E2824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C715-2CFC-4F2C-8D83-8979164F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6F52-1F8F-402B-BE4F-924E494F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3F74-A9FB-4C9B-A929-099D6F04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BBCE-C953-49AC-8C0C-3D9FD5D7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5726-2E09-4D87-90B9-FBB6F856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F849-3DCA-4409-849C-EDDD532D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6305-2C0F-47F9-B5E8-476948EF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8864-A4AD-4C39-A583-9933CF8C21FD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C35D-0913-4A41-AA1E-07C80056F5C7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630360" y="6103800"/>
            <a:ext cx="30619440" cy="12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</a:t>
            </a:r>
            <a:r>
              <a:rPr b="1" lang="pt-BR" sz="70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6560" y="7848720"/>
            <a:ext cx="3199464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Sociais e Comunicação - Direito - Indianópolis (trata-se de um exemplo: 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738920" y="1152360"/>
            <a:ext cx="23512680" cy="366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P - Vice-Reitoria de Pós-Graduação e Pesquisa</a:t>
            </a:r>
            <a:r>
              <a:rPr b="1" lang="pt-BR" sz="6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Imagem 1" descr=""/>
          <p:cNvPicPr/>
          <p:nvPr/>
        </p:nvPicPr>
        <p:blipFill>
          <a:blip r:embed="rId1"/>
          <a:srcRect l="11655" t="4981" r="12175" b="31887"/>
          <a:stretch/>
        </p:blipFill>
        <p:spPr>
          <a:xfrm>
            <a:off x="6291360" y="13274640"/>
            <a:ext cx="19297440" cy="17951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C:\Users\POS\Pictures\Logos\LogoTarja_ViceReitoria.png"/>
          <p:cNvPicPr/>
          <p:nvPr/>
        </p:nvPicPr>
        <p:blipFill>
          <a:blip r:embed="rId2"/>
          <a:stretch/>
        </p:blipFill>
        <p:spPr>
          <a:xfrm>
            <a:off x="1459080" y="145080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26:31Z</dcterms:modified>
  <cp:revision>190</cp:revision>
  <dc:subject/>
  <dc:title>Slide sem título</dc:title>
</cp:coreProperties>
</file>