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08C-67C0-4DD9-B8AF-210EEF7F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42B-85D6-4CED-A945-28ED49B4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283-92D5-454E-8451-1CBFF411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77B-A972-4508-BC50-F483B4C4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78A-D670-4A43-AA6C-AF517C82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0E86-C309-45D3-8715-6FF38D82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4DA1-7399-4276-86A9-1FB9942E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7E08-F4CF-46B6-AAAE-751EE01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0C06-A0C9-4B98-B68D-8D355853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DDE1-A962-42B4-BDBC-6D201526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D18E-ABD6-493A-98B9-CF49DFA7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8E0-E74B-4A39-B021-61936411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BBB1-B873-436C-BF8B-DE5A24C8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E646-22DF-4A60-A40A-507C79E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7EAC-36CB-45C7-B6E0-01AFBED5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C664-856C-4F2D-9B02-BA956BAE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6152-A276-4786-812B-1C4F48D1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3DC-5214-43F8-9404-A13A1995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76E-850D-4EFB-B5C9-9A78EDBE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4A6-A15C-45C9-8697-EF7754DB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4D3-16F3-40F1-97C3-4BB54532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085-47F1-4C5F-B038-36FB77D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D9D-EB97-4C93-B89A-B110AA3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592-3E90-4571-A39C-C414156C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4A85-61B0-4176-868E-73E06260D595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08AE-8CB8-48A8-AFC5-EE805DF09378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4560" y="6369120"/>
            <a:ext cx="3240396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27200" y="8097840"/>
            <a:ext cx="33715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191919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                               </a:t>
            </a:r>
            <a:r>
              <a:rPr b="0" lang="pt-BR" sz="5500" spc="-1" strike="noStrike">
                <a:solidFill>
                  <a:srgbClr val="191919"/>
                </a:solidFill>
                <a:latin typeface="Arial"/>
              </a:rPr>
              <a:t>Orientador: Prof. ou Profa. XXXXX Se for Doutor, Prof. Dr. ou Profa. Dra.</a:t>
            </a:r>
            <a:endParaRPr b="0" lang="en-US" sz="5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500" spc="-1" strike="noStrike">
                <a:solidFill>
                  <a:srgbClr val="191919"/>
                </a:solidFill>
                <a:latin typeface="Arial"/>
                <a:ea typeface="Arial"/>
              </a:rPr>
              <a:t>Superior Tecnológico - Informação e Comunicação  - Gestão da Tecnologia da Informação</a:t>
            </a:r>
            <a:r>
              <a:rPr b="0" lang="pt-BR" sz="5500" spc="-1" strike="noStrike">
                <a:solidFill>
                  <a:srgbClr val="191919"/>
                </a:solidFill>
                <a:latin typeface="Times New Roman"/>
              </a:rPr>
              <a:t> </a:t>
            </a:r>
            <a:r>
              <a:rPr b="0" lang="pt-BR" sz="5500" spc="-1" strike="noStrike">
                <a:solidFill>
                  <a:srgbClr val="191919"/>
                </a:solidFill>
                <a:latin typeface="Arial"/>
              </a:rPr>
              <a:t> - Indianópolis (trata-se de um exemplo: cada aluno deve preencher com seus dados de curso e </a:t>
            </a:r>
            <a:r>
              <a:rPr b="0" i="1" lang="pt-BR" sz="5500" spc="-1" strike="noStrike">
                <a:solidFill>
                  <a:srgbClr val="191919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288280" y="1427040"/>
            <a:ext cx="2468556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UNIP - Vice-Reitoria de Pós-Graduação e Pesquisa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5:45Z</dcterms:modified>
  <cp:revision>187</cp:revision>
  <dc:subject/>
  <dc:title>Slide sem título </dc:title>
</cp:coreProperties>
</file>