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B65-618E-4BA3-B716-2B7C09E2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EF4-0ECA-477B-995B-7189EAB4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2A5-09E7-45D5-B1C4-7F95F586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A0A-2E0C-4265-B046-41369E86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9F7C-5100-4C4B-BC0B-BFD21EB7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205-6C66-47E3-A93A-97893C4B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F4B4-7109-43F1-BD48-A91B9CB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EF6-0376-41FA-B65E-A43D4BE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265D-9E3C-4DF5-9CC0-81D9F62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08B-9084-4461-9327-BD931E2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CD32-10EC-4A14-9BE9-2DFB7AF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F81-2E8D-4576-899F-E0B4DF0C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EE9-2D91-4A2C-80CB-86D772F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C11B-1462-439A-BC9B-307670A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A10-2332-4499-B37B-5B6416B1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78E0-3F58-4442-B01C-8EF00DB1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457D-F0FA-4E97-8CCB-01EF0BDF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271-EE6C-48A2-A2BF-BF1B738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EBC-9E94-4CEE-B841-2B7BDA1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017-BF9E-4F10-9B73-CDFCE4C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A69-DFE4-4C9F-B1A2-7DBAFF48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6EC-B28D-4207-B672-4493B91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305-F980-40DE-BDD7-6EDF085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0BC-A9FB-47E1-8347-8ACBDB2F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5CD4-6AEA-49A9-8506-3E3CE7CEA180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0424-BCF9-4535-B00C-8ABCF81AB28F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36912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82600" y="8097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333333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012160" y="1112760"/>
            <a:ext cx="2497464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7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333333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333333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10Z</dcterms:modified>
  <cp:revision>183</cp:revision>
  <dc:subject/>
  <dc:title>Slide sem título </dc:title>
</cp:coreProperties>
</file>