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598-CB48-4855-816E-C4CFD21E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99A-B2BF-4BCD-81D6-774E2996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6CA-ADBD-4192-B2A5-18DF01CB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F03-31F0-434E-A2A3-512305C4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274E-3E41-4A3F-A93C-C99559B7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576A-6B0E-4219-9642-2BEBB69D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DE41-5809-4645-A753-8A901F1B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E086-1231-4F21-8AEA-5C7A9EC6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A7CB-42FD-4EAC-9B23-12F74C62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E40B-568E-43C5-8232-185AB016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0145-97BF-43C4-8C50-C2043652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462-2361-447B-8752-A2025C8D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7988-E411-491C-AC48-F8765136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F9E1-4C8D-4D5A-8920-952662BD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C6BD-4B52-4C16-AED5-D42C7207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3CE2-FF9E-47D2-AF1F-91DE2517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9CB7-04A7-4FAC-9D60-C815CDBB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770-826D-4CE1-A457-26E0431E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3FC-29DD-4A3E-B061-3CD3BDE8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075-308E-4458-8CEE-C3599138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D44-FA30-48DA-AFEA-EB2CF919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0F1-D61A-4525-9EDF-6E730BA9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572-A354-4509-9349-F13B3E56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3B3-BA49-4DAE-AF91-D6F4701B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AD6A-3E73-4028-B1E5-18E1F9340E7B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7916-3A61-4002-AB7B-B95225714089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795240" y="628344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28600" y="845820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000066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Ciências da Saúde - Odontologia - Indianópolis (trata-se de um exemplo: cada aluno deve preencher com seus dados de curso e </a:t>
            </a:r>
            <a:r>
              <a:rPr b="0" i="1" lang="pt-BR" sz="5700" spc="-1" strike="noStrike">
                <a:solidFill>
                  <a:srgbClr val="000066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9020160" y="1257480"/>
            <a:ext cx="2403792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UNIP - Vice-Reitoria de Pós-Graduação e Pesquisa</a:t>
            </a:r>
            <a:r>
              <a:rPr b="1" lang="pt-BR" sz="6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66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66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762200"/>
            <a:ext cx="759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7:07Z</dcterms:modified>
  <cp:revision>179</cp:revision>
  <dc:subject/>
  <dc:title>Slide sem título </dc:title>
</cp:coreProperties>
</file>