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4290000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9F66-8882-4DA0-ADE6-9426229A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212-F420-4911-BF1B-3D602788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2216-44BC-475A-8817-06DB97D5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964-8635-453A-8561-1ABB66F5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2DE4-DD42-4706-BE62-882DBA4D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45EF-3DD1-4E09-A6EE-3285BB9B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F838-74AB-4B02-9247-187ECD4E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6832-B1DC-48A7-B2FD-9B81CA75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6061-B524-417D-A8EF-B0050345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2B37-7C2A-4712-AB68-122FBD18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E0EA-F63B-49A3-A4D5-3F7C8FB9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2FE-A4DD-4FAC-B69B-A7EEE877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A946-57A9-4190-AAE6-10DC3BC0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DBBA-BB30-4C31-B307-8A4D1BB9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5B7C-61B1-4601-A82E-92B4D51C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15F4-11BF-4C89-A9E2-0742EBF7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D062-2075-4FCE-AAF4-10DD6C96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10F-8625-4547-9B50-7ACCAECB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AA71-2EBB-4EF4-8788-11685969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496-9765-4470-AF4C-424B0BCD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449-7AD8-4111-A38E-39579A6F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4E63-52F0-4FB0-ADDE-F56ADB52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32B5-1CF9-4DF8-82A9-BAAA3B3C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559-C1C0-45E5-9ED2-185B498E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5AF5-AADB-4AA7-90EC-B0A576EAB6B3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590920" y="22269600"/>
            <a:ext cx="28698840" cy="3238200"/>
          </a:xfrm>
          <a:custGeom>
            <a:avLst/>
            <a:gdLst>
              <a:gd name="textAreaLeft" fmla="*/ 0 w 28698840"/>
              <a:gd name="textAreaRight" fmla="*/ 28699200 w 28698840"/>
              <a:gd name="textAreaTop" fmla="*/ 0 h 3238200"/>
              <a:gd name="textAreaBottom" fmla="*/ 3238560 h 323820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5619-FF59-4374-A332-62B1B7B261DA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531720" y="6272280"/>
            <a:ext cx="3240432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700" spc="-1" strike="noStrike">
                <a:solidFill>
                  <a:srgbClr val="000066"/>
                </a:solidFill>
                <a:latin typeface="Arial"/>
              </a:rPr>
              <a:t>                         </a:t>
            </a:r>
            <a:r>
              <a:rPr b="1" lang="pt-BR" sz="70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162000" y="8458200"/>
            <a:ext cx="34061400" cy="36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4900" spc="-1" strike="noStrike">
                <a:solidFill>
                  <a:srgbClr val="333333"/>
                </a:solidFill>
                <a:latin typeface="Arial"/>
              </a:rPr>
              <a:t>                         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1" lang="pt-BR" sz="57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Orientador: Prof. ou Profa. XXXXX Se for Doutor, Prof. Dr. ou Profa. Dra.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Ciências Sociais e Comunicação - Administração - Indianópolis (trata-se de um exemplo: cada aluno deve preencher com seus dados de curso e </a:t>
            </a:r>
            <a:r>
              <a:rPr b="0" i="1" lang="pt-BR" sz="57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8913960" y="1257480"/>
            <a:ext cx="24144120" cy="367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2a2a2a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2a2a2a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2a2a2a"/>
                </a:solidFill>
                <a:latin typeface="Arial"/>
              </a:rPr>
              <a:t>UNIP - Vice-Reitoria de Pós-Graduação e Pesquisa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95280" y="41849640"/>
            <a:ext cx="1184760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47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7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7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59080" y="145080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7:37Z</dcterms:modified>
  <cp:revision>182</cp:revision>
  <dc:subject/>
  <dc:title>Slide sem título </dc:title>
</cp:coreProperties>
</file>