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65A-A3D9-4608-92CC-B5760715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00B-C3F8-429B-A1B8-6312F90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209-4C4C-422E-9A62-C9351A67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8CE-26FA-4215-9E09-EBB82FB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448-6D66-4A24-8FF4-A9292A92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66E5-E91A-4C7B-8600-6260CF1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6F8B-F633-440E-AE52-5373EAF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B5A9-07F0-4A88-A5CF-B9B20E0A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79B1-100F-4A78-A535-50BFAD9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A38C-885C-4BE6-9622-18472C2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9F8-0AD3-48FD-AE7A-EA20287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A23-E380-4CE4-8C59-2F0309EB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6E1-C8DF-478A-B7E8-C830251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542-E622-4539-B117-0243680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8455-2B81-46F5-8032-C3C966E4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923-F7E8-4C3E-8D3C-B9288F6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6C9-BB24-4056-968C-C0FBBB77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E30-DB69-485B-ABD2-A303C15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74B-CCCE-433A-9F5C-E5A10CDE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E34-928B-4FDE-B001-DDA473E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F71-71C4-4EDE-B75B-BEAA41D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E68-5210-4DE0-8334-2603421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FA-3DC1-4020-9963-AC1BAB35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23E-8BCA-4E07-9C59-1023FB6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725-A986-4498-A7E5-8065328B06F3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B9D3-74BB-4D9A-876B-621F236CA1B1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10560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54160" y="8313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659800" y="1450800"/>
            <a:ext cx="2461428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8:02Z</dcterms:modified>
  <cp:revision>181</cp:revision>
  <dc:subject/>
  <dc:title>Slide sem título </dc:title>
</cp:coreProperties>
</file>