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2404050" cy="396033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0092-5CE9-4B1C-BCAA-36E12FA6B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B556-BC9B-4727-98CA-500E6F1A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8DFC-3499-4145-8BC7-2DFD48952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F028-A3A6-4052-BD44-2593B5710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63A5-651A-458E-A996-3C6FB6F62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08C8-4AF4-43EE-8630-31058C5A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9669-C9AA-498C-B97F-83C1FB64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E1AF-E1F7-48DE-AACF-86466E12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B8B59-CBD3-4A84-9717-49C2672F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41DB-66A4-4C63-835F-BB97884F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C02C-88DE-4A16-8348-3B29DF3D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E417-8D7E-47C8-92F3-1DEFC594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C5FD-98D1-459E-99B3-639C5FE6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546DB-5215-4B24-89CE-4014FB19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1BF6-BF16-4689-8415-A89E009B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AFFC-5D15-4B48-AAFB-F844C0D23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42F1-512F-421D-AE4A-2A2F44709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4DE7-2CF5-4ED8-88A6-F20D77B0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987B-9FD7-43D2-91DB-4671DB60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9C8F-8C16-4B20-AD20-61D83FD8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9241-5395-41CA-AB45-3AE08739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C71C-3219-4580-841D-50772BFD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C63F-ACB2-426D-9450-4ADD9445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E729-E319-4CFD-9DF6-F81F4786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7B7E-E067-497A-BA02-C1068AA8ECDB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2448000" y="19291320"/>
            <a:ext cx="27120600" cy="2805120"/>
          </a:xfrm>
          <a:custGeom>
            <a:avLst/>
            <a:gdLst>
              <a:gd name="textAreaLeft" fmla="*/ 0 w 27120600"/>
              <a:gd name="textAreaRight" fmla="*/ 27120960 w 27120600"/>
              <a:gd name="textAreaTop" fmla="*/ 0 h 2805120"/>
              <a:gd name="textAreaBottom" fmla="*/ 2805480 h 280512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FAFBA-77CA-4926-B83E-A3E24E719B3B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20"/>
          <p:cNvSpPr/>
          <p:nvPr/>
        </p:nvSpPr>
        <p:spPr>
          <a:xfrm>
            <a:off x="846000" y="5073480"/>
            <a:ext cx="30621600" cy="110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Título da pesquisa  XXXXXXXXXXXXXXXXX</a:t>
            </a:r>
            <a:endParaRPr b="0" lang="en-US" sz="6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322"/>
          <p:cNvSpPr/>
          <p:nvPr/>
        </p:nvSpPr>
        <p:spPr>
          <a:xfrm>
            <a:off x="73080" y="7364520"/>
            <a:ext cx="32187960" cy="32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Aluno ou Aluna: </a:t>
            </a:r>
            <a:r>
              <a:rPr b="1" lang="pt-BR" sz="5100" spc="-1" strike="noStrike">
                <a:solidFill>
                  <a:srgbClr val="000000"/>
                </a:solidFill>
                <a:latin typeface="Arial"/>
              </a:rPr>
              <a:t>XXXXXXXX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Orientador ou Orientadora: Prof. ou Profa. XXXXX Se for Doutor, Prof. Dr. ou Profa. Dra.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Ciências da Saúde - Biomedicina - Indianópolis (trata-se de um exemplo: cada aluno deve preencher com seus dados de curso e </a:t>
            </a:r>
            <a:r>
              <a:rPr b="0" i="1" lang="pt-BR" sz="5100" spc="-1" strike="noStrike">
                <a:solidFill>
                  <a:srgbClr val="000000"/>
                </a:solidFill>
                <a:latin typeface="Arial"/>
              </a:rPr>
              <a:t>campus</a:t>
            </a: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Text Box 361"/>
          <p:cNvSpPr/>
          <p:nvPr/>
        </p:nvSpPr>
        <p:spPr>
          <a:xfrm>
            <a:off x="7315200" y="1606680"/>
            <a:ext cx="25088760" cy="233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Apoio UNIP - Vice-Reitoria de Pós-Graduação e 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Pesquisa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1224000" y="36252000"/>
            <a:ext cx="1119672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51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4200" spc="-1" strike="noStrike">
                <a:solidFill>
                  <a:srgbClr val="000000"/>
                </a:solidFill>
                <a:latin typeface="Arial"/>
              </a:rPr>
              <a:t>Palavras-chave</a:t>
            </a:r>
            <a:r>
              <a:rPr b="0" lang="pt-BR" sz="4200" spc="-1" strike="noStrike">
                <a:solidFill>
                  <a:srgbClr val="000000"/>
                </a:solidFill>
                <a:latin typeface="Arial"/>
              </a:rPr>
              <a:t>: (até 03-três)</a:t>
            </a:r>
            <a:endParaRPr b="0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AutoShape 8"/>
          <p:cNvSpPr/>
          <p:nvPr/>
        </p:nvSpPr>
        <p:spPr>
          <a:xfrm>
            <a:off x="165240" y="-174600"/>
            <a:ext cx="19545120" cy="195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8" name="Imagem 1" descr=""/>
          <p:cNvPicPr/>
          <p:nvPr/>
        </p:nvPicPr>
        <p:blipFill>
          <a:blip r:embed="rId1"/>
          <a:stretch/>
        </p:blipFill>
        <p:spPr>
          <a:xfrm>
            <a:off x="6769080" y="13849200"/>
            <a:ext cx="17559360" cy="18297720"/>
          </a:xfrm>
          <a:prstGeom prst="rect">
            <a:avLst/>
          </a:prstGeom>
          <a:ln w="0">
            <a:noFill/>
          </a:ln>
        </p:spPr>
      </p:pic>
      <p:pic>
        <p:nvPicPr>
          <p:cNvPr id="89" name="Imagem 8" descr=""/>
          <p:cNvPicPr/>
          <p:nvPr/>
        </p:nvPicPr>
        <p:blipFill>
          <a:blip r:embed="rId2"/>
          <a:stretch/>
        </p:blipFill>
        <p:spPr>
          <a:xfrm>
            <a:off x="2089080" y="1658880"/>
            <a:ext cx="68407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5:26:35Z</dcterms:created>
  <dc:creator>UNIP</dc:creator>
  <dc:description/>
  <dc:language>en-US</dc:language>
  <cp:lastModifiedBy>pos</cp:lastModifiedBy>
  <dcterms:modified xsi:type="dcterms:W3CDTF">2021-11-17T14:46:07Z</dcterms:modified>
  <cp:revision>188</cp:revision>
  <dc:subject/>
  <dc:title>Slide sem título</dc:title>
</cp:coreProperties>
</file>