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186-D75D-4D9E-91DD-3172FB0A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5C5-3F54-4619-83A2-E6189BAA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96B-5658-414B-86D7-B7DC1A72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BBF-8198-45AB-9198-17652DD0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EDE-9F8C-431E-9EF5-128DED3D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08E-EF01-47A6-8355-0926338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1E1C-6963-4D57-8B8A-C9A5991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492F-B4EE-49FC-A6B1-9C01961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4130-C89D-455D-8F5E-CBB5F00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43A-8638-44E6-8C17-6C71860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AF5A-3A85-4A34-88A7-D957403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C45-7FA2-4632-8A5E-75CC3DC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070-B37E-4D06-A782-8EE9A0F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5D1C-1A7B-4783-8509-11EACCB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0C0F-80E9-43B1-92F9-6C87680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89C-F82B-4229-9D4E-82C02A66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854F-2459-4509-A407-DDD60AFC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5AC-7B35-4A70-A45A-F25F81A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E9D-627A-4461-AC44-CF29BCA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46C-E916-4AEA-AB79-DC68C98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F38-BE86-43BF-81DF-B442C2B5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D1A-F1F8-4B43-A6FE-9073A1A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614-B5BD-40B3-8905-BD09A6AB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93B-7B2D-4C59-93D8-BE59E71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2CA8-F0B1-46E0-80A6-1D94B52AB4A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8509-DC31-4664-B704-E81FB388034E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72436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– Ciências Biológicas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8874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1:46Z</dcterms:modified>
  <cp:revision>190</cp:revision>
  <dc:subject/>
  <dc:title>Slide sem título</dc:title>
</cp:coreProperties>
</file>