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DA4-BED4-4CE6-9B44-35598423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DE5-92F1-4F9D-9B25-2ED5F4EA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501-BAAE-4133-A144-18C7B04B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A74-0C93-478D-9A03-319933E0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E87-548F-47EC-A20A-960D50DB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C0FB-0FC3-4A20-857F-C9D2D07B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D75C-A35B-4F57-92C4-62F74E3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8893-360D-4F9A-A44A-299266E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E999-7B4E-42B6-AED3-3544E34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DA5-680F-48DD-971D-033EBF5D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3247-C9C6-4898-B109-800F8BB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A66-A192-476C-9CD0-FEBAB9C3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8A76-D7B5-425E-A3C8-6A424A1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80C-BD13-4D64-A6A3-3ED4D6B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C94-6EE4-47AA-8380-357C79D6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E27-230F-4A0E-A6A9-FBB8A838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A8E-1829-41C4-ADC9-7DF2FD25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D4C-4514-458A-9088-6B83325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AC5-FBC1-46A4-A346-E581F24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FEF-8F88-4675-B8E6-566BD1D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D7C-B695-41CB-BA25-FAAEAD0C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D45-CBEA-43EB-BF5D-DB526E0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621-257E-489A-AD41-A9B6F19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AFC-819E-4158-BE11-C7346E6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301-F5DF-4F14-A2E4-88705A676DD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C0A-AA54-43FD-9262-9ED6F8745F2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133640" y="495144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16840"/>
            <a:ext cx="321865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Exatas e Tecnologia - Engenhar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55640" y="1081080"/>
            <a:ext cx="760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02Z</dcterms:modified>
  <cp:revision>186</cp:revision>
  <dc:subject/>
  <dc:title>Slide sem título</dc:title>
</cp:coreProperties>
</file>