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9BD5-7B90-4099-A09D-0A69B072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93E-1F47-44C2-85B7-B8013764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CA3D-702D-4894-B18A-02911E0C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D457-873C-49F0-9AEE-2AEB8CB3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E0CF-C006-4DA9-95E8-FCFE77A6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5B0A-EF5D-4705-A924-DC3ABF13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D6F6-7EF1-474F-9822-36968582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C638-C6AC-4B55-8143-E868A2E0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FB17-B302-44AC-A6E4-0F421C1B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ACC4-5710-4525-A198-C1E3438F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9D86-5421-42A5-820A-A698843A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5104-8FE4-45FF-8C92-5A8C6F27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38ED-F4A4-4789-A426-B755E907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3B56-FF2B-4A56-94B6-21DEB8FA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2E4B-3E17-426E-896A-BF2DBAEB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112A-C612-44F9-8B21-15218E74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B5CC-25D2-4CC4-8D0C-6AE7A62D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318B-17CD-40A8-8F2E-592BE0AE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F407-10A3-44C6-9A67-E00C776A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305E-E2DA-4B60-9E35-E84399C6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FAF9-4427-4F44-88F9-851E3F5D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8937-BA70-4D3A-A396-3D9AF3F0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09C2-7AE8-4FD9-80F5-20D4615A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8946-25FE-4256-85FC-4ACC0A74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1216-D71B-457B-B96C-6EE890A2EECC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9582-5344-4ED7-804D-8DDDC4BFE951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917640" y="5073480"/>
            <a:ext cx="30622680" cy="110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216000" y="7426440"/>
            <a:ext cx="3218796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rientador ou Orientadora: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Ciências Humanas - Pedagogia - Indianópolis (trata-se de um exemplo:cada aluno deve preencher com seus dados de curso e </a:t>
            </a:r>
            <a:r>
              <a:rPr b="0" i="1" lang="pt-BR" sz="51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9290160" y="1606680"/>
            <a:ext cx="22753440" cy="233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Apoio UNIP - Vice-Reitoria de Pós-Graduação e Pesquis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689120" y="1152360"/>
            <a:ext cx="76010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04:12Z</dcterms:modified>
  <cp:revision>185</cp:revision>
  <dc:subject/>
  <dc:title>Slide sem título</dc:title>
</cp:coreProperties>
</file>