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D63-F5FE-41C1-8853-2F8F03C0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5E37-7DAD-4CAC-90B5-277B8F7B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1F01-1022-4D1A-99A9-E5182BFC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6CA-609D-441F-9576-BF56F14E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B0C6-1DDC-43AB-8283-7A322A81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3B83-5925-4B70-92FD-9D68784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BA20-A938-4EAA-9A85-6B3F8A18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5CC-204D-4DE6-BDA7-3BB2417A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2A1F-AD8E-4FED-B9BD-B6481D4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DFE8-9B24-4AF9-A88A-CC1BF1BF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5623-5D6C-4EB3-A5C8-7CE4F4A7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1A3-E699-4EFD-A112-C3E598E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5ACD-6802-4D8D-B3C9-512607A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8DFB-FE58-4A5B-8DB8-2937CC4A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BE0A-5728-4860-9977-24F0C4C6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A951-2116-4AF0-88A1-F22711C1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8DE4-5F0F-4CB8-82D3-7D610FE6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64F-9AF8-4658-A9B6-8F5639B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555-F02E-429C-A4CE-5C1D023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CF3-0AAC-4CC8-ADB1-BF447AE2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021-98D4-4343-997A-F102991F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60DF-03EC-4D85-88B2-C4EEBC7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77A-564D-4E19-A157-E9CBE39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47A-7EDE-41C0-940F-15CE3F64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C437-87B6-4822-A371-B0417ADD60C2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8A00-406D-47EF-AF46-951B93CA452D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Ciências da Saúde - Odontolog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51272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47Z</dcterms:modified>
  <cp:revision>181</cp:revision>
  <dc:subject/>
  <dc:title>Slide sem título</dc:title>
</cp:coreProperties>
</file>