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2404050" cy="39603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4D45-4340-4FC8-BB99-F0F706A29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A86C-F0B4-4389-AD79-FEB5CC8D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9EE0-9226-4AB9-B97F-B57DCB140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7364-F681-4A31-9A66-9F1CF14A5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A457-F4FD-4399-BCBE-5F2E19C62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8BEB-8C12-4784-A81D-8CB0B753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9509-5AB4-4123-AA66-B2503C8B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533C-1588-4A29-952C-C5A308E6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F645-1806-4D06-82B5-D50C878A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B47F-9E96-47E2-BA4F-0D61051F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6D76-96EF-42F5-9676-25F4F287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2547-A0FE-4C7D-A98F-043E071D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C392-3B55-491A-8A5F-C6F0ED73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7F16-EE7D-4FD0-A1FE-417541E9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9626-2CD2-4CF5-B16D-BEA277AA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BA77-7642-4A41-A323-CC04A975D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B045-37CD-42A1-9088-59FA6D57C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34B0-9D69-4594-B4B5-E461045E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D03E-07DD-4C5C-9258-22FE67FC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8263-52EB-46CF-ACF5-B72F095B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9815-5BA2-4AD2-9B8B-2B32151F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7B5B-7F88-48C5-9AE2-9415A2A7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89B0-E950-4644-A880-982421BE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0577-5298-4D22-A685-7F5ABC32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69A2-B9A0-416F-A39D-F9C4B9F5A1C6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448000" y="19291320"/>
            <a:ext cx="27120600" cy="2805120"/>
          </a:xfrm>
          <a:custGeom>
            <a:avLst/>
            <a:gdLst>
              <a:gd name="textAreaLeft" fmla="*/ 0 w 27120600"/>
              <a:gd name="textAreaRight" fmla="*/ 27120960 w 27120600"/>
              <a:gd name="textAreaTop" fmla="*/ 0 h 2805120"/>
              <a:gd name="textAreaBottom" fmla="*/ 2805480 h 280512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F18B-0662-4DE0-BFC3-59BD8070CD87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674640" y="5149800"/>
            <a:ext cx="30623040" cy="110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Título da pesquisa  XXXXXXXXXXXXXXXXX</a:t>
            </a:r>
            <a:endParaRPr b="0" lang="en-US" sz="6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73080" y="6807240"/>
            <a:ext cx="32187960" cy="32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Aluno ou Aluna: </a:t>
            </a:r>
            <a:r>
              <a:rPr b="1" lang="pt-BR" sz="51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Orientador: ou Orientadora: Prof. ou Profa. XXXXX Se for Doutor, Prof. Dr. ou Profa. Dra.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333333"/>
                </a:solidFill>
                <a:latin typeface="Arial"/>
              </a:rPr>
              <a:t>Ciências Sociais e Comunicação - Administração </a:t>
            </a: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- Indianópolis (trata-se de um exemplo:cada aluno deve preencher com seus dados de curso e </a:t>
            </a:r>
            <a:r>
              <a:rPr b="0" i="1" lang="pt-BR" sz="5100" spc="-1" strike="noStrike">
                <a:solidFill>
                  <a:srgbClr val="000000"/>
                </a:solidFill>
                <a:latin typeface="Arial"/>
              </a:rPr>
              <a:t>campus</a:t>
            </a: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7315200" y="1606680"/>
            <a:ext cx="25088760" cy="233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Apoio UNIP - Vice-Reitoria de Pós-Graduação e 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Pesquisa 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24000" y="36252000"/>
            <a:ext cx="1119672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51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4200" spc="-1" strike="noStrike">
                <a:solidFill>
                  <a:srgbClr val="000000"/>
                </a:solidFill>
                <a:latin typeface="Arial"/>
              </a:rPr>
              <a:t>Palavras-chave</a:t>
            </a:r>
            <a:r>
              <a:rPr b="0" lang="pt-BR" sz="4200" spc="-1" strike="noStrike">
                <a:solidFill>
                  <a:srgbClr val="000000"/>
                </a:solidFill>
                <a:latin typeface="Arial"/>
              </a:rPr>
              <a:t>: (de 3 a 5)</a:t>
            </a:r>
            <a:endParaRPr b="0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Freeform 27"/>
          <p:cNvSpPr/>
          <p:nvPr/>
        </p:nvSpPr>
        <p:spPr>
          <a:xfrm>
            <a:off x="6019920" y="2019240"/>
            <a:ext cx="230040" cy="130320"/>
          </a:xfrm>
          <a:custGeom>
            <a:avLst/>
            <a:gdLst/>
            <a:ahLst/>
            <a:rect l="l" t="t" r="r" b="b"/>
            <a:pathLst>
              <a:path w="522" h="314">
                <a:moveTo>
                  <a:pt x="0" y="314"/>
                </a:moveTo>
                <a:lnTo>
                  <a:pt x="184" y="314"/>
                </a:lnTo>
                <a:lnTo>
                  <a:pt x="206" y="313"/>
                </a:lnTo>
                <a:lnTo>
                  <a:pt x="226" y="311"/>
                </a:lnTo>
                <a:lnTo>
                  <a:pt x="246" y="307"/>
                </a:lnTo>
                <a:lnTo>
                  <a:pt x="265" y="301"/>
                </a:lnTo>
                <a:lnTo>
                  <a:pt x="285" y="295"/>
                </a:lnTo>
                <a:lnTo>
                  <a:pt x="303" y="286"/>
                </a:lnTo>
                <a:lnTo>
                  <a:pt x="321" y="277"/>
                </a:lnTo>
                <a:lnTo>
                  <a:pt x="337" y="267"/>
                </a:lnTo>
                <a:lnTo>
                  <a:pt x="353" y="255"/>
                </a:lnTo>
                <a:lnTo>
                  <a:pt x="369" y="243"/>
                </a:lnTo>
                <a:lnTo>
                  <a:pt x="383" y="230"/>
                </a:lnTo>
                <a:lnTo>
                  <a:pt x="396" y="216"/>
                </a:lnTo>
                <a:lnTo>
                  <a:pt x="410" y="201"/>
                </a:lnTo>
                <a:lnTo>
                  <a:pt x="421" y="186"/>
                </a:lnTo>
                <a:lnTo>
                  <a:pt x="431" y="170"/>
                </a:lnTo>
                <a:lnTo>
                  <a:pt x="441" y="153"/>
                </a:lnTo>
                <a:lnTo>
                  <a:pt x="522" y="0"/>
                </a:lnTo>
                <a:lnTo>
                  <a:pt x="158" y="0"/>
                </a:lnTo>
                <a:lnTo>
                  <a:pt x="0" y="31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8" name="Picture 9" descr="C:\Users\POS\Pictures\Logos\LogoTarja_ViceReitoria.png"/>
          <p:cNvPicPr/>
          <p:nvPr/>
        </p:nvPicPr>
        <p:blipFill>
          <a:blip r:embed="rId1"/>
          <a:stretch/>
        </p:blipFill>
        <p:spPr>
          <a:xfrm>
            <a:off x="1617840" y="1368360"/>
            <a:ext cx="75992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3-03-16T18:05:01Z</dcterms:modified>
  <cp:revision>186</cp:revision>
  <dc:subject/>
  <dc:title>Slide sem título</dc:title>
</cp:coreProperties>
</file>