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B10-36D1-4509-AEB5-7B7CA2A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540-591B-40BD-83B2-3FCC0F5D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589-5C74-480A-9F98-F5335C06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AD2-80B1-43C3-9315-02E322AB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173-C192-48CD-8C5F-A64A256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E79-4ABC-45E7-AE06-7C06512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B82-8F65-4BB5-A90F-4B970733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1F9-C112-424F-81E0-EE34390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217-23DB-410A-A80C-ACCFA4C2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865-AD39-46A4-9B86-72A9029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AFB3-E97B-4241-B106-7791020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435-6E9D-4DE1-82FE-6A2551E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4FB-E049-48F6-86D9-2DF8A9A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1794-9ACA-4A6D-B90F-B4C4D655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227-9BB7-43AF-AADF-66BE075B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294F-DF1C-4321-A37F-B64A0120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FAF-4277-4EC8-AC64-A97B872D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342-D374-486C-BB26-94C72047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DE3-E0F9-48AE-B762-4EF51D2C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DA0-F140-4391-AB8C-6778E8E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5E-7590-4EC2-93C5-81409E4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E12-5466-45B4-8D9C-41BFF93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002-6251-472B-AB2F-F3FFB53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95A-94EA-4538-A163-6C43A2B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A68-7A1B-4CBE-A60C-1681E87E4326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BC23-AC5B-4BE3-9414-5A2C0CDCC2A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29272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0Z</dcterms:modified>
  <cp:revision>184</cp:revision>
  <dc:subject/>
  <dc:title>Slide sem título</dc:title>
</cp:coreProperties>
</file>