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530-9527-4F9D-A951-28A74F88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807-5FE9-4293-A996-FCC4102A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AF4-F245-47D1-AFF9-A1C51D77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1CF-697C-483F-AA64-08D0D813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8180-9277-45F2-BD59-58F09A29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C396-80BC-4C9D-9143-2F49F735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900D-11FA-43A1-A06D-788812B5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D6B4-EF3C-403E-9BFB-0FA077BD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6585-6749-4053-AD65-9D576E4B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9967-FDBE-47AF-93B1-BFA55F86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0452-D7B6-4E49-B1EC-F5D22AEA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1903-164E-476D-9D81-2F25CB2D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5A22-1544-487B-91A4-F21D76BB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97D5-A093-452C-8F1F-BA6AF112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BABB-51BD-404A-9014-B2B65631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638B-686C-4403-AAC5-5E3A4910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521C-6E20-4FE4-95F9-7C1ABA14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E145-DFFB-461B-BFB6-C3D500E6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EE0-215A-4732-8CF1-F6197A3E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2FC-DAE3-4F5D-8E51-9FB69C60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E4B-305E-42D8-A091-C835A98E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B32-03B6-4485-A93A-F401F10D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23E-111A-4FDF-9550-C245A099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E63-D862-4F83-BB71-8929F42F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>
                <a:alpha val="81176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3DC9-139C-418B-B2C7-15D24A5B0F92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>
                <a:alpha val="81176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AB82-0E15-40E6-8AA7-CD9ED30E7C71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1062000" y="4889520"/>
            <a:ext cx="3062124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66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178760"/>
            <a:ext cx="32187960" cy="33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66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Orientador: 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u Orientadora:</a:t>
            </a: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400" spc="-1" strike="noStrike">
                <a:solidFill>
                  <a:srgbClr val="000066"/>
                </a:solidFill>
                <a:latin typeface="Arial"/>
              </a:rPr>
              <a:t>Superior Tecnológico - Ambiente e Saúde – Estética e Cosmética - Indianópolis (trata-se de um exemplo: cada aluno deve preencher com seus dados de curso e </a:t>
            </a:r>
            <a:r>
              <a:rPr b="0" i="1" lang="pt-BR" sz="5400" spc="-1" strike="noStrike">
                <a:solidFill>
                  <a:srgbClr val="000066"/>
                </a:solidFill>
                <a:latin typeface="Arial"/>
              </a:rPr>
              <a:t>campus</a:t>
            </a:r>
            <a:r>
              <a:rPr b="0" lang="pt-BR" sz="5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Pesquisa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66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66"/>
                </a:solidFill>
                <a:latin typeface="Arial"/>
              </a:rPr>
              <a:t>: (de 03-três até 05-cinco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01840" y="115236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4:24Z</dcterms:modified>
  <cp:revision>182</cp:revision>
  <dc:subject/>
  <dc:title>Slide sem título</dc:title>
</cp:coreProperties>
</file>